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3E9-3F24-4A56-A1E1-8249DFEC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9D2-5645-4558-ABF7-447986C4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F3B17-83AD-41DA-AE46-C4B67B53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71289-B37F-4523-B5E5-59A2DA9D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D573F-C9BB-4685-BFEB-A87A750D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21499-DAB4-4AB8-955D-21111D08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3371B-CD44-4C0A-AE41-F8A096DC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6C69D-220C-4D86-8A88-E9E4001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270E4-90EE-44DE-9AF8-800EF1D2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E0B45-D0FD-461B-A8BB-3236F5E6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C2914-FD9A-45AE-8DCA-E9A71CC6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0F9D6-6480-4A5F-B3B5-EE9D1703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48A-4189-4514-BD55-08FFD539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02EEB-654B-4A9E-A7CF-6F88D7B7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28301-061D-482E-A426-1F19C0A1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1EC72-C15B-4058-9059-5C456BD1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23966-E23F-47ED-A4FB-1365DD45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11348-BC70-4811-AA4C-E332A77C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71106-D500-4B3B-83D6-0FBE072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0AACA-5A2B-42D7-9702-E5215E25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B6C26-8743-4B22-9AD5-22ED5617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D55F2-DDFF-4AC1-8F94-A13FC4E2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CBBB4-193E-4A9F-BE33-C32ADE9F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E81-E5B4-4474-AF77-5797DDCB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4E0EC-6680-48D3-807B-93AD0D0C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3155F-3336-4D20-BBA7-A46360AC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2089D-1A5D-44F4-9DBC-29FB5142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4C497-9798-4677-8D4E-CAE94F83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02F22-44E4-4EC3-84FE-FDB88482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876B8-B7E4-4927-AA13-06808EFE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65982-D830-4612-8D77-6E7F00C2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6D8FC-625C-4B48-940A-7FE2A40B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9103E-F456-4BFA-BD12-9162E8D3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74AF4-70B2-4897-B72B-83476F9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55F6-AEA3-4179-AE5C-F126657C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02FB8-D8A7-42F7-8E13-A62EDC49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99503-6AA8-450F-A514-B114AC04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232A1-005B-4F5E-85E6-B248CE4A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83770-7BA0-427B-B50F-B96936A8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15994-986B-47CE-9747-F9061723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3000A-4929-4563-AF35-D6E4F0D5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F9AEA-2AAB-4B6A-98C6-E28FC44A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188AB-44FA-4D80-A445-AD34F2C2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E90F5-B2F1-4AB6-9CF1-B1AB4D22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4AC1A-8588-4875-A5E0-3B99C50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B301-DF13-4C08-8D5E-F5101E9A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BDD4F-9033-41B0-BB68-9F4BB5E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65123-AD35-42C9-BBA2-7668E608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FB0F5-8D31-441A-8834-6067918C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A6F7E-A010-4C62-B2B6-4334D36E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24B4D-E39E-449E-A88C-38BD5B70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6518-CA75-4271-9C93-29DCC203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9425-59A2-4C2C-9DB0-90C63A8A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262-CA96-4B8D-8D56-D18601EB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DE87-EEBD-4B14-B4BD-FE008C19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0426-E021-455F-B4F9-C1B1219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C0A-F4EE-4785-979A-8B3E3F5A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8C64-44CA-4C57-A3FD-F4DDD637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78D7-1417-49E5-B2DD-0EE4183E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CFD4-3364-47E0-84A3-A94F20B3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BEFF-14EB-4EAC-B968-88DB701B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B903-6334-4CB2-B8EE-8D09E777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2D9F-A423-45CA-BE67-DA61596A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65A8-24A2-4885-84B2-62D17371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54D2-FE2E-45EF-AEA1-C2B65E94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34099-C4D5-4073-BD93-56345EE7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D172-5225-422A-B0CC-FF3BBE81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A8C-02F0-492B-89CF-BC53D58F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01D8C-C450-4B7E-95D2-6F6C4EA1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FA25-E4EC-46F2-82E4-1AB9DD07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6161-592D-4D59-BB0D-36043EF0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64B3-88A6-41C3-8091-3F8CE22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C3DB5-4299-43CA-8A16-EDA778E0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DE34B-86F1-47CF-BFD1-E60329D6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0F55-3B23-4A5B-BCBD-22C84878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7CB8-418D-4280-98D6-9222D9D1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35C1-DA1F-4C66-B1FB-BA3435B3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BDEB-B925-47FB-A85D-C4744316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53B-20B5-44AB-9FE7-6A899525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EE5C6-216D-4568-8B8B-AF70B377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A8BF-77A2-433B-92B6-6B3D6802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CE899-D0AF-40B8-B4E4-CA74ACDD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8B69D-FA06-4066-B22F-156A675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C71C0-4E07-4F0C-9F8B-5EA9855C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D3052-5543-4AE5-A1D0-D6ED386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90B5-F6C8-4E3C-A46F-28BE5819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8C9A4-041B-4177-A714-3D11EE0A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AB81-81CC-470D-9EE4-E95D405B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988AA-26CC-44AE-9F50-F3ACB4EB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B8F-86DE-44AF-9EEE-89E15442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6DC86-A474-46D0-B8E0-CCE4919D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7257-5819-4B33-9DE1-7F8D96E2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B501-FF56-485D-87D9-2414F384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150F-2D95-417B-AE1B-0189EB34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A4A81-C9A5-4154-98DD-5469CB68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7AC96-973F-421E-83CF-B98CDF9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EA22B-2BA4-4108-9A7B-45F9FD1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9449A-1C56-4B67-9D01-D68321D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7D2F-F207-4B5F-8EEC-31898D56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DD24-9DE5-4CB2-B4AA-D4FDE8F6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E46-FFEE-4AB5-8073-1FBE686D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7D04C-6405-4455-B35F-96348807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A8CFE-CF90-42C2-8707-9250F9C1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FF63E-2ABC-4B36-BD1D-3FB82A0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E94D3-AA9D-47BE-912C-5601001E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423EC-415A-4579-878F-E94D0A39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B782-A0B8-4B6D-B3A5-9128675F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D794-B1AC-482F-A9D8-5803727D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16E33-2161-4FAF-976F-6C94F3D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C7B9A-ADB9-4692-912C-62F104A9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005C6-EDE4-446D-8C39-606DB0EA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425-3C62-4CD7-9803-681AD7B8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BD11-CBBD-4E3B-843C-83E358EB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7B43-A136-4125-8D1D-412B4EFC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E3CC3-D543-446A-B430-C0D9E2A1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4EAE8-C2F9-4FB5-8519-60144194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431B6-F56A-445D-86C8-9E63B3CF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BE717-A608-4615-88D8-B3E3C726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9C82D-FBFE-433B-85B7-40D6B6CB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6A505-2FE7-4039-B57C-2C9D9877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EBDED-6677-434E-A31F-D2C0DBC7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C8F27-6A11-408E-BB36-1B437DB4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717-4A95-4DE0-B433-4C00106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F5DC9-954C-45F2-B028-09B3EDB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1129E-081D-4D6C-BA92-CCFEDC30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BDE09-B943-4161-AA1A-A1745002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788F2-6EE4-4FF3-A6C6-DD6E7338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5B954-93D9-40A0-AA32-D0EAFC0D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9CE6A-14A0-435A-A351-7E47ABF0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C31D2-D5A4-4873-94CB-8DAFA102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DB950-BB36-4866-AED2-4FF3DF36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401A3-070C-471A-AA07-1C0980B6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9F03B-CCD8-4EC5-AC2B-ECEF2D7F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E68-2D17-41A0-862E-494B6AA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89F77-3410-4B38-A1DD-A9558ACF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992CA-3D16-4941-995B-0E06A50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E29D7-EFDF-443A-A37E-76D155D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F93B5-CAD0-49D2-A5B0-95E6388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FAB60-88C9-4639-84CC-E1B477DC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9AA6A-1F94-48BA-8DA3-FD774A8E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FBE74-B423-4CCE-8A4E-FF7461E5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46A61-BB32-441D-B8D1-5015B6E8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544AD-46F8-4988-BB2C-18085218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38D8B-3E87-4086-BE9F-E2065D60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584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584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584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584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584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584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584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A26B-7FC2-483F-9787-93AA171AA8D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C24B-FCF2-4035-AAA6-C005B3E4A92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1FEA-129D-4C0A-8954-F35612617E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4C49-2FE1-412D-BED1-9774CA22879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686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686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686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686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686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687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687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4600-04B3-40A3-9B30-D147E066001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F6EE-A5F1-41E4-A826-094AB238805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DEC4-85DF-40DC-A084-51A665120F0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A201-AECB-4090-A537-1C5808D4D1B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951-CFB8-40E2-A571-E656A511152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F60A-E2B1-461A-857F-08142081974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D1E0-AA97-42E7-BA71-7F1C34E070D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A2AB-A8E2-4E4F-8915-08A229354E8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476360" y="1628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2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坐井观天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7" name="图片 2" descr=""/>
          <p:cNvPicPr/>
          <p:nvPr/>
        </p:nvPicPr>
        <p:blipFill>
          <a:blip r:embed="rId1"/>
          <a:stretch/>
        </p:blipFill>
        <p:spPr>
          <a:xfrm>
            <a:off x="2192400" y="2444760"/>
            <a:ext cx="4868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3"/>
          <p:cNvSpPr/>
          <p:nvPr/>
        </p:nvSpPr>
        <p:spPr>
          <a:xfrm>
            <a:off x="1035000" y="2492280"/>
            <a:ext cx="69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看准每个字在田字格里的位置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看清每个字的结构，放慢速度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严格按笔顺描写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5" name="矩形 4" descr=""/>
          <p:cNvPicPr/>
          <p:nvPr/>
        </p:nvPicPr>
        <p:blipFill>
          <a:blip r:embed="rId1"/>
          <a:stretch/>
        </p:blipFill>
        <p:spPr>
          <a:xfrm>
            <a:off x="1035000" y="1482840"/>
            <a:ext cx="262116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矩形 3"/>
          <p:cNvSpPr/>
          <p:nvPr/>
        </p:nvSpPr>
        <p:spPr>
          <a:xfrm>
            <a:off x="237960" y="1413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组合作学习课文的第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—7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然段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要求：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分角色朗读课文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用不同的符号画出小鸟和青蛙说的话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找出小鸟和小青蛙的三次对话，想想它们为什么对天的看法不一样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矩形 1"/>
          <p:cNvSpPr/>
          <p:nvPr/>
        </p:nvSpPr>
        <p:spPr>
          <a:xfrm>
            <a:off x="5385240" y="324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33cc"/>
                </a:solidFill>
                <a:uFillTx/>
                <a:latin typeface="Calibri"/>
                <a:ea typeface="宋体"/>
              </a:rPr>
              <a:t>朗读感悟，细读课文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2"/>
          <p:cNvSpPr/>
          <p:nvPr/>
        </p:nvSpPr>
        <p:spPr>
          <a:xfrm>
            <a:off x="6435720" y="266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Calibri"/>
                <a:ea typeface="宋体"/>
              </a:rPr>
              <a:t>第一次对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1"/>
          <a:stretch/>
        </p:blipFill>
        <p:spPr>
          <a:xfrm>
            <a:off x="714240" y="1052640"/>
            <a:ext cx="8425080" cy="5256000"/>
          </a:xfrm>
          <a:prstGeom prst="rect">
            <a:avLst/>
          </a:prstGeom>
          <a:ln w="0">
            <a:noFill/>
          </a:ln>
        </p:spPr>
      </p:pic>
      <p:sp>
        <p:nvSpPr>
          <p:cNvPr id="651" name="云形 7"/>
          <p:cNvSpPr/>
          <p:nvPr/>
        </p:nvSpPr>
        <p:spPr>
          <a:xfrm>
            <a:off x="4535640" y="4076640"/>
            <a:ext cx="2714400" cy="1513080"/>
          </a:xfrm>
          <a:prstGeom prst="pie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你从哪儿来呀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?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云形 8"/>
          <p:cNvSpPr/>
          <p:nvPr/>
        </p:nvSpPr>
        <p:spPr>
          <a:xfrm>
            <a:off x="395280" y="1120680"/>
            <a:ext cx="4968720" cy="2975040"/>
          </a:xfrm>
          <a:prstGeom prst="pie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从天上来，飞了一百多里，口渴了，下来找点儿水喝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图片 9" descr=""/>
          <p:cNvPicPr/>
          <p:nvPr/>
        </p:nvPicPr>
        <p:blipFill>
          <a:blip r:embed="rId1"/>
          <a:stretch/>
        </p:blipFill>
        <p:spPr>
          <a:xfrm>
            <a:off x="5292720" y="3908520"/>
            <a:ext cx="3846600" cy="2400120"/>
          </a:xfrm>
          <a:prstGeom prst="rect">
            <a:avLst/>
          </a:prstGeom>
          <a:ln w="0">
            <a:noFill/>
          </a:ln>
        </p:spPr>
      </p:pic>
      <p:sp>
        <p:nvSpPr>
          <p:cNvPr id="654" name="矩形 12"/>
          <p:cNvSpPr/>
          <p:nvPr/>
        </p:nvSpPr>
        <p:spPr>
          <a:xfrm>
            <a:off x="461880" y="4764240"/>
            <a:ext cx="486108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分别用横线和波浪线画出青蛙小鸟各自的观点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矩形 13"/>
          <p:cNvSpPr/>
          <p:nvPr/>
        </p:nvSpPr>
        <p:spPr>
          <a:xfrm>
            <a:off x="5978520" y="266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Calibri"/>
                <a:ea typeface="宋体"/>
              </a:rPr>
              <a:t>第二次对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矩形 1"/>
          <p:cNvSpPr/>
          <p:nvPr/>
        </p:nvSpPr>
        <p:spPr>
          <a:xfrm>
            <a:off x="673200" y="1557360"/>
            <a:ext cx="821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青蛙说：“朋友，别说大话了！天不过井口那么大，还用飞那么远吗？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鸟说：“你弄错了。天无边无际，大得很哪！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9" descr=""/>
          <p:cNvPicPr/>
          <p:nvPr/>
        </p:nvPicPr>
        <p:blipFill>
          <a:blip r:embed="rId1"/>
          <a:stretch/>
        </p:blipFill>
        <p:spPr>
          <a:xfrm>
            <a:off x="5292720" y="3908520"/>
            <a:ext cx="3846600" cy="2400120"/>
          </a:xfrm>
          <a:prstGeom prst="rect">
            <a:avLst/>
          </a:prstGeom>
          <a:ln w="0">
            <a:noFill/>
          </a:ln>
        </p:spPr>
      </p:pic>
      <p:sp>
        <p:nvSpPr>
          <p:cNvPr id="658" name="矩形 12"/>
          <p:cNvSpPr/>
          <p:nvPr/>
        </p:nvSpPr>
        <p:spPr>
          <a:xfrm>
            <a:off x="803160" y="4508640"/>
            <a:ext cx="446400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一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……</a:t>
            </a: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就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……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矩形 4"/>
          <p:cNvSpPr/>
          <p:nvPr/>
        </p:nvSpPr>
        <p:spPr>
          <a:xfrm>
            <a:off x="5978520" y="266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Calibri"/>
                <a:ea typeface="宋体"/>
              </a:rPr>
              <a:t>第三次对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矩形 5"/>
          <p:cNvSpPr/>
          <p:nvPr/>
        </p:nvSpPr>
        <p:spPr>
          <a:xfrm>
            <a:off x="504720" y="1155600"/>
            <a:ext cx="86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青蛙笑了，说：“朋友，我天天坐在井里，一抬头就看见天。我不会弄错的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鸟也笑了，说：“朋友，你是弄错了。不信，你跳出井口来看一看吧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矩形 3"/>
          <p:cNvSpPr/>
          <p:nvPr/>
        </p:nvSpPr>
        <p:spPr>
          <a:xfrm>
            <a:off x="1528560" y="1674720"/>
            <a:ext cx="2649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华文彩云"/>
                <a:ea typeface="华文彩云"/>
              </a:rPr>
              <a:t>拓展学习，巩固提高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矩形 4"/>
          <p:cNvSpPr/>
          <p:nvPr/>
        </p:nvSpPr>
        <p:spPr>
          <a:xfrm>
            <a:off x="2050920" y="2565360"/>
            <a:ext cx="62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学习了这篇课文，你能说说“坐井观天”的含义吗？从中你学到了什么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3" name="图片 1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462320" cy="19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75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75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矩形 3"/>
          <p:cNvSpPr/>
          <p:nvPr/>
        </p:nvSpPr>
        <p:spPr>
          <a:xfrm>
            <a:off x="1621440" y="1773360"/>
            <a:ext cx="2649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华文彩云"/>
                <a:ea typeface="华文彩云"/>
              </a:rPr>
              <a:t>拓展学习，巩固提高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矩形 4"/>
          <p:cNvSpPr/>
          <p:nvPr/>
        </p:nvSpPr>
        <p:spPr>
          <a:xfrm>
            <a:off x="2952720" y="270828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想一想，你觉得自己有像青蛙的地方吗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6" name="图片 5" descr=""/>
          <p:cNvPicPr/>
          <p:nvPr/>
        </p:nvPicPr>
        <p:blipFill>
          <a:blip r:embed="rId1"/>
          <a:stretch/>
        </p:blipFill>
        <p:spPr>
          <a:xfrm>
            <a:off x="1247760" y="3141720"/>
            <a:ext cx="1461960" cy="19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5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75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5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矩形 3"/>
          <p:cNvSpPr/>
          <p:nvPr/>
        </p:nvSpPr>
        <p:spPr>
          <a:xfrm>
            <a:off x="1619280" y="1628640"/>
            <a:ext cx="2649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华文彩云"/>
                <a:ea typeface="华文彩云"/>
              </a:rPr>
              <a:t>拓展学习，巩固提高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矩形 4"/>
          <p:cNvSpPr/>
          <p:nvPr/>
        </p:nvSpPr>
        <p:spPr>
          <a:xfrm>
            <a:off x="774720" y="220500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组合作，续编第四次对话：如果青蛙真的跳出井口，它会看到什么，会说些什么呢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70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标题 1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3"/>
          <p:cNvSpPr/>
          <p:nvPr/>
        </p:nvSpPr>
        <p:spPr>
          <a:xfrm>
            <a:off x="611280" y="1557360"/>
            <a:ext cx="8064360" cy="137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4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寓言故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就是有明显教训意义的故事。它的结构简短，多用借喻手法，使富有教训意义的主题或深刻的道理在简单的故事中体现。中国历来有些著名的寓言故事如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揠苗助长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相矛盾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郑人买履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守株待兔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刻舟求剑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画蛇添足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等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0" name="矩形 5" descr=""/>
          <p:cNvPicPr/>
          <p:nvPr/>
        </p:nvPicPr>
        <p:blipFill>
          <a:blip r:embed="rId1"/>
          <a:stretch/>
        </p:blipFill>
        <p:spPr>
          <a:xfrm>
            <a:off x="5940360" y="331920"/>
            <a:ext cx="170172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矩形 5" descr=""/>
          <p:cNvPicPr/>
          <p:nvPr/>
        </p:nvPicPr>
        <p:blipFill>
          <a:blip r:embed="rId1"/>
          <a:stretch/>
        </p:blipFill>
        <p:spPr>
          <a:xfrm>
            <a:off x="581040" y="1123920"/>
            <a:ext cx="2152800" cy="647640"/>
          </a:xfrm>
          <a:prstGeom prst="rect">
            <a:avLst/>
          </a:prstGeom>
          <a:ln w="0">
            <a:noFill/>
          </a:ln>
        </p:spPr>
      </p:pic>
      <p:sp>
        <p:nvSpPr>
          <p:cNvPr id="512" name="矩形 2"/>
          <p:cNvSpPr/>
          <p:nvPr/>
        </p:nvSpPr>
        <p:spPr>
          <a:xfrm>
            <a:off x="581040" y="1805040"/>
            <a:ext cx="820908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由朗读课文并完成下列任务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可以看拼音，或者请教老师和同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准每一个字的字音，圈出生字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通每个句子，读不通顺的多读几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给每个自然段写上序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矩形 5"/>
          <p:cNvSpPr/>
          <p:nvPr/>
        </p:nvSpPr>
        <p:spPr>
          <a:xfrm>
            <a:off x="826920" y="1700280"/>
            <a:ext cx="675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井       观       沿    答  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喝       渴       话      际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矩形 6"/>
          <p:cNvSpPr/>
          <p:nvPr/>
        </p:nvSpPr>
        <p:spPr>
          <a:xfrm>
            <a:off x="-846000" y="1076400"/>
            <a:ext cx="8424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</a:rPr>
              <a:t>         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j</a:t>
            </a:r>
            <a:r>
              <a:rPr b="0" i="1" lang="en-US" sz="5400" spc="-1" strike="noStrike" u="sng">
                <a:solidFill>
                  <a:srgbClr val="00b050"/>
                </a:solidFill>
                <a:uFillTx/>
                <a:latin typeface="Arial"/>
                <a:ea typeface="宋体"/>
              </a:rPr>
              <a:t>ǐnɡ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ɡu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ān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y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án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dá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hē        kě       huà     jì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17040" y="1916280"/>
            <a:ext cx="853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弄错   回答   哪  抬头   井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口渴   喝水   大话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无边无际   坐井观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图片 1" descr=""/>
          <p:cNvPicPr/>
          <p:nvPr/>
        </p:nvPicPr>
        <p:blipFill>
          <a:blip r:embed="rId1"/>
          <a:stretch/>
        </p:blipFill>
        <p:spPr>
          <a:xfrm>
            <a:off x="5867280" y="3033720"/>
            <a:ext cx="250992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900000" y="2707920"/>
            <a:ext cx="7920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故事讲的是谁和谁的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青蛙为什么说天只有井口那么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标题 1"/>
          <p:cNvSpPr/>
          <p:nvPr/>
        </p:nvSpPr>
        <p:spPr>
          <a:xfrm>
            <a:off x="0" y="1413000"/>
            <a:ext cx="43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cc"/>
                </a:solidFill>
                <a:uFillTx/>
                <a:latin typeface="华文彩云"/>
                <a:ea typeface="华文彩云"/>
              </a:rPr>
              <a:t>学习提示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7" descr="t016776e8f4052c6342.gif"/>
          <p:cNvPicPr/>
          <p:nvPr/>
        </p:nvPicPr>
        <p:blipFill>
          <a:blip r:embed="rId1"/>
          <a:stretch/>
        </p:blipFill>
        <p:spPr>
          <a:xfrm>
            <a:off x="511200" y="3789360"/>
            <a:ext cx="1962000" cy="1962000"/>
          </a:xfrm>
          <a:prstGeom prst="rect">
            <a:avLst/>
          </a:prstGeom>
          <a:ln w="0">
            <a:noFill/>
          </a:ln>
        </p:spPr>
      </p:pic>
      <p:sp>
        <p:nvSpPr>
          <p:cNvPr id="520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1" name="Group 29"/>
          <p:cNvGrpSpPr/>
          <p:nvPr/>
        </p:nvGrpSpPr>
        <p:grpSpPr>
          <a:xfrm>
            <a:off x="2297160" y="1859040"/>
            <a:ext cx="1504800" cy="1360440"/>
            <a:chOff x="2297160" y="1859040"/>
            <a:chExt cx="1504800" cy="1360440"/>
          </a:xfrm>
        </p:grpSpPr>
        <p:sp>
          <p:nvSpPr>
            <p:cNvPr id="522" name="Rectangle 30"/>
            <p:cNvSpPr/>
            <p:nvPr/>
          </p:nvSpPr>
          <p:spPr>
            <a:xfrm>
              <a:off x="3049560" y="253368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Rectangle 31"/>
            <p:cNvSpPr/>
            <p:nvPr/>
          </p:nvSpPr>
          <p:spPr>
            <a:xfrm>
              <a:off x="2297160" y="253368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Rectangle 32"/>
            <p:cNvSpPr/>
            <p:nvPr/>
          </p:nvSpPr>
          <p:spPr>
            <a:xfrm>
              <a:off x="3049560" y="185904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Rectangle 33"/>
            <p:cNvSpPr/>
            <p:nvPr/>
          </p:nvSpPr>
          <p:spPr>
            <a:xfrm>
              <a:off x="2297160" y="185904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>
              <a:off x="2297160" y="185904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Line 35"/>
            <p:cNvSpPr/>
            <p:nvPr/>
          </p:nvSpPr>
          <p:spPr>
            <a:xfrm>
              <a:off x="2297160" y="253368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Line 36"/>
            <p:cNvSpPr/>
            <p:nvPr/>
          </p:nvSpPr>
          <p:spPr>
            <a:xfrm>
              <a:off x="2297160" y="321948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Line 37"/>
            <p:cNvSpPr/>
            <p:nvPr/>
          </p:nvSpPr>
          <p:spPr>
            <a:xfrm>
              <a:off x="2297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0" name="Line 38"/>
            <p:cNvSpPr/>
            <p:nvPr/>
          </p:nvSpPr>
          <p:spPr>
            <a:xfrm>
              <a:off x="304956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1" name="Line 39"/>
            <p:cNvSpPr/>
            <p:nvPr/>
          </p:nvSpPr>
          <p:spPr>
            <a:xfrm>
              <a:off x="38019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2" name="Text Box 40"/>
          <p:cNvSpPr/>
          <p:nvPr/>
        </p:nvSpPr>
        <p:spPr>
          <a:xfrm>
            <a:off x="236232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井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3" name="Group 29"/>
          <p:cNvGrpSpPr/>
          <p:nvPr/>
        </p:nvGrpSpPr>
        <p:grpSpPr>
          <a:xfrm>
            <a:off x="3852720" y="1859040"/>
            <a:ext cx="1503360" cy="1360440"/>
            <a:chOff x="3852720" y="1859040"/>
            <a:chExt cx="1503360" cy="1360440"/>
          </a:xfrm>
        </p:grpSpPr>
        <p:sp>
          <p:nvSpPr>
            <p:cNvPr id="534" name="Rectangle 30"/>
            <p:cNvSpPr/>
            <p:nvPr/>
          </p:nvSpPr>
          <p:spPr>
            <a:xfrm>
              <a:off x="460440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Rectangle 31"/>
            <p:cNvSpPr/>
            <p:nvPr/>
          </p:nvSpPr>
          <p:spPr>
            <a:xfrm>
              <a:off x="385272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460440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385272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>
              <a:off x="385272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Line 35"/>
            <p:cNvSpPr/>
            <p:nvPr/>
          </p:nvSpPr>
          <p:spPr>
            <a:xfrm>
              <a:off x="385272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Line 36"/>
            <p:cNvSpPr/>
            <p:nvPr/>
          </p:nvSpPr>
          <p:spPr>
            <a:xfrm>
              <a:off x="385272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Line 37"/>
            <p:cNvSpPr/>
            <p:nvPr/>
          </p:nvSpPr>
          <p:spPr>
            <a:xfrm>
              <a:off x="385272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2" name="Line 38"/>
            <p:cNvSpPr/>
            <p:nvPr/>
          </p:nvSpPr>
          <p:spPr>
            <a:xfrm>
              <a:off x="460440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Line 39"/>
            <p:cNvSpPr/>
            <p:nvPr/>
          </p:nvSpPr>
          <p:spPr>
            <a:xfrm>
              <a:off x="535608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4" name="Text Box 40"/>
          <p:cNvSpPr/>
          <p:nvPr/>
        </p:nvSpPr>
        <p:spPr>
          <a:xfrm>
            <a:off x="3916440" y="174960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观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5" name="Group 29"/>
          <p:cNvGrpSpPr/>
          <p:nvPr/>
        </p:nvGrpSpPr>
        <p:grpSpPr>
          <a:xfrm>
            <a:off x="5432400" y="1859040"/>
            <a:ext cx="1503360" cy="1360440"/>
            <a:chOff x="5432400" y="1859040"/>
            <a:chExt cx="1503360" cy="1360440"/>
          </a:xfrm>
        </p:grpSpPr>
        <p:sp>
          <p:nvSpPr>
            <p:cNvPr id="546" name="Rectangle 30"/>
            <p:cNvSpPr/>
            <p:nvPr/>
          </p:nvSpPr>
          <p:spPr>
            <a:xfrm>
              <a:off x="61840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7" name="Rectangle 31"/>
            <p:cNvSpPr/>
            <p:nvPr/>
          </p:nvSpPr>
          <p:spPr>
            <a:xfrm>
              <a:off x="54324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Rectangle 32"/>
            <p:cNvSpPr/>
            <p:nvPr/>
          </p:nvSpPr>
          <p:spPr>
            <a:xfrm>
              <a:off x="61840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Rectangle 33"/>
            <p:cNvSpPr/>
            <p:nvPr/>
          </p:nvSpPr>
          <p:spPr>
            <a:xfrm>
              <a:off x="54324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Line 34"/>
            <p:cNvSpPr/>
            <p:nvPr/>
          </p:nvSpPr>
          <p:spPr>
            <a:xfrm>
              <a:off x="54324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Line 35"/>
            <p:cNvSpPr/>
            <p:nvPr/>
          </p:nvSpPr>
          <p:spPr>
            <a:xfrm>
              <a:off x="54324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Line 36"/>
            <p:cNvSpPr/>
            <p:nvPr/>
          </p:nvSpPr>
          <p:spPr>
            <a:xfrm>
              <a:off x="54324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Line 37"/>
            <p:cNvSpPr/>
            <p:nvPr/>
          </p:nvSpPr>
          <p:spPr>
            <a:xfrm>
              <a:off x="54324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4" name="Line 38"/>
            <p:cNvSpPr/>
            <p:nvPr/>
          </p:nvSpPr>
          <p:spPr>
            <a:xfrm>
              <a:off x="61840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5" name="Line 39"/>
            <p:cNvSpPr/>
            <p:nvPr/>
          </p:nvSpPr>
          <p:spPr>
            <a:xfrm>
              <a:off x="69357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6" name="Text Box 40"/>
          <p:cNvSpPr/>
          <p:nvPr/>
        </p:nvSpPr>
        <p:spPr>
          <a:xfrm>
            <a:off x="5495760" y="17496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沿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7" name="Group 29"/>
          <p:cNvGrpSpPr/>
          <p:nvPr/>
        </p:nvGrpSpPr>
        <p:grpSpPr>
          <a:xfrm>
            <a:off x="7012080" y="1855800"/>
            <a:ext cx="1503360" cy="1359000"/>
            <a:chOff x="7012080" y="1855800"/>
            <a:chExt cx="1503360" cy="1359000"/>
          </a:xfrm>
        </p:grpSpPr>
        <p:sp>
          <p:nvSpPr>
            <p:cNvPr id="558" name="Rectangle 30"/>
            <p:cNvSpPr/>
            <p:nvPr/>
          </p:nvSpPr>
          <p:spPr>
            <a:xfrm>
              <a:off x="7763760" y="252972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Rectangle 31"/>
            <p:cNvSpPr/>
            <p:nvPr/>
          </p:nvSpPr>
          <p:spPr>
            <a:xfrm>
              <a:off x="7012080" y="252972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63760" y="185580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1" name="Rectangle 33"/>
            <p:cNvSpPr/>
            <p:nvPr/>
          </p:nvSpPr>
          <p:spPr>
            <a:xfrm>
              <a:off x="7012080" y="185580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34"/>
            <p:cNvSpPr/>
            <p:nvPr/>
          </p:nvSpPr>
          <p:spPr>
            <a:xfrm>
              <a:off x="7012080" y="1855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35"/>
            <p:cNvSpPr/>
            <p:nvPr/>
          </p:nvSpPr>
          <p:spPr>
            <a:xfrm>
              <a:off x="7012080" y="25297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Line 36"/>
            <p:cNvSpPr/>
            <p:nvPr/>
          </p:nvSpPr>
          <p:spPr>
            <a:xfrm>
              <a:off x="7012080" y="3214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37"/>
            <p:cNvSpPr/>
            <p:nvPr/>
          </p:nvSpPr>
          <p:spPr>
            <a:xfrm>
              <a:off x="701208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Line 38"/>
            <p:cNvSpPr/>
            <p:nvPr/>
          </p:nvSpPr>
          <p:spPr>
            <a:xfrm>
              <a:off x="7763760" y="18558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Line 39"/>
            <p:cNvSpPr/>
            <p:nvPr/>
          </p:nvSpPr>
          <p:spPr>
            <a:xfrm>
              <a:off x="851544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8" name="Text Box 40"/>
          <p:cNvSpPr/>
          <p:nvPr/>
        </p:nvSpPr>
        <p:spPr>
          <a:xfrm>
            <a:off x="7075440" y="174456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答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9" name="Group 29"/>
          <p:cNvGrpSpPr/>
          <p:nvPr/>
        </p:nvGrpSpPr>
        <p:grpSpPr>
          <a:xfrm>
            <a:off x="2297160" y="3759120"/>
            <a:ext cx="1504800" cy="1360440"/>
            <a:chOff x="2297160" y="3759120"/>
            <a:chExt cx="1504800" cy="1360440"/>
          </a:xfrm>
        </p:grpSpPr>
        <p:sp>
          <p:nvSpPr>
            <p:cNvPr id="570" name="Rectangle 30"/>
            <p:cNvSpPr/>
            <p:nvPr/>
          </p:nvSpPr>
          <p:spPr>
            <a:xfrm>
              <a:off x="3049560" y="443376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Rectangle 31"/>
            <p:cNvSpPr/>
            <p:nvPr/>
          </p:nvSpPr>
          <p:spPr>
            <a:xfrm>
              <a:off x="2297160" y="443376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Rectangle 32"/>
            <p:cNvSpPr/>
            <p:nvPr/>
          </p:nvSpPr>
          <p:spPr>
            <a:xfrm>
              <a:off x="3049560" y="375912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2297160" y="375912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Line 34"/>
            <p:cNvSpPr/>
            <p:nvPr/>
          </p:nvSpPr>
          <p:spPr>
            <a:xfrm>
              <a:off x="2297160" y="37591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Line 35"/>
            <p:cNvSpPr/>
            <p:nvPr/>
          </p:nvSpPr>
          <p:spPr>
            <a:xfrm>
              <a:off x="2297160" y="443376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Line 36"/>
            <p:cNvSpPr/>
            <p:nvPr/>
          </p:nvSpPr>
          <p:spPr>
            <a:xfrm>
              <a:off x="2297160" y="511956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Line 37"/>
            <p:cNvSpPr/>
            <p:nvPr/>
          </p:nvSpPr>
          <p:spPr>
            <a:xfrm>
              <a:off x="22971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8" name="Line 38"/>
            <p:cNvSpPr/>
            <p:nvPr/>
          </p:nvSpPr>
          <p:spPr>
            <a:xfrm>
              <a:off x="304956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9" name="Line 39"/>
            <p:cNvSpPr/>
            <p:nvPr/>
          </p:nvSpPr>
          <p:spPr>
            <a:xfrm>
              <a:off x="38019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0" name="Text Box 40"/>
          <p:cNvSpPr/>
          <p:nvPr/>
        </p:nvSpPr>
        <p:spPr>
          <a:xfrm>
            <a:off x="2362320" y="36496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渴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1" name="Group 29"/>
          <p:cNvGrpSpPr/>
          <p:nvPr/>
        </p:nvGrpSpPr>
        <p:grpSpPr>
          <a:xfrm>
            <a:off x="3852720" y="3759120"/>
            <a:ext cx="1503360" cy="1360440"/>
            <a:chOff x="3852720" y="3759120"/>
            <a:chExt cx="1503360" cy="1360440"/>
          </a:xfrm>
        </p:grpSpPr>
        <p:sp>
          <p:nvSpPr>
            <p:cNvPr id="582" name="Rectangle 30"/>
            <p:cNvSpPr/>
            <p:nvPr/>
          </p:nvSpPr>
          <p:spPr>
            <a:xfrm>
              <a:off x="460440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Rectangle 31"/>
            <p:cNvSpPr/>
            <p:nvPr/>
          </p:nvSpPr>
          <p:spPr>
            <a:xfrm>
              <a:off x="385272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Rectangle 32"/>
            <p:cNvSpPr/>
            <p:nvPr/>
          </p:nvSpPr>
          <p:spPr>
            <a:xfrm>
              <a:off x="460440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Rectangle 33"/>
            <p:cNvSpPr/>
            <p:nvPr/>
          </p:nvSpPr>
          <p:spPr>
            <a:xfrm>
              <a:off x="385272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Line 34"/>
            <p:cNvSpPr/>
            <p:nvPr/>
          </p:nvSpPr>
          <p:spPr>
            <a:xfrm>
              <a:off x="385272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Line 35"/>
            <p:cNvSpPr/>
            <p:nvPr/>
          </p:nvSpPr>
          <p:spPr>
            <a:xfrm>
              <a:off x="385272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Line 36"/>
            <p:cNvSpPr/>
            <p:nvPr/>
          </p:nvSpPr>
          <p:spPr>
            <a:xfrm>
              <a:off x="385272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9" name="Line 37"/>
            <p:cNvSpPr/>
            <p:nvPr/>
          </p:nvSpPr>
          <p:spPr>
            <a:xfrm>
              <a:off x="385272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0" name="Line 38"/>
            <p:cNvSpPr/>
            <p:nvPr/>
          </p:nvSpPr>
          <p:spPr>
            <a:xfrm>
              <a:off x="460440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Line 39"/>
            <p:cNvSpPr/>
            <p:nvPr/>
          </p:nvSpPr>
          <p:spPr>
            <a:xfrm>
              <a:off x="535608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3916440" y="36496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喝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3" name="Group 29"/>
          <p:cNvGrpSpPr/>
          <p:nvPr/>
        </p:nvGrpSpPr>
        <p:grpSpPr>
          <a:xfrm>
            <a:off x="5432400" y="3759120"/>
            <a:ext cx="1503360" cy="1360440"/>
            <a:chOff x="5432400" y="3759120"/>
            <a:chExt cx="1503360" cy="1360440"/>
          </a:xfrm>
        </p:grpSpPr>
        <p:sp>
          <p:nvSpPr>
            <p:cNvPr id="594" name="Rectangle 30"/>
            <p:cNvSpPr/>
            <p:nvPr/>
          </p:nvSpPr>
          <p:spPr>
            <a:xfrm>
              <a:off x="618408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Rectangle 31"/>
            <p:cNvSpPr/>
            <p:nvPr/>
          </p:nvSpPr>
          <p:spPr>
            <a:xfrm>
              <a:off x="543240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Rectangle 32"/>
            <p:cNvSpPr/>
            <p:nvPr/>
          </p:nvSpPr>
          <p:spPr>
            <a:xfrm>
              <a:off x="618408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7" name="Rectangle 33"/>
            <p:cNvSpPr/>
            <p:nvPr/>
          </p:nvSpPr>
          <p:spPr>
            <a:xfrm>
              <a:off x="543240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Line 34"/>
            <p:cNvSpPr/>
            <p:nvPr/>
          </p:nvSpPr>
          <p:spPr>
            <a:xfrm>
              <a:off x="543240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9" name="Line 35"/>
            <p:cNvSpPr/>
            <p:nvPr/>
          </p:nvSpPr>
          <p:spPr>
            <a:xfrm>
              <a:off x="543240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0" name="Line 36"/>
            <p:cNvSpPr/>
            <p:nvPr/>
          </p:nvSpPr>
          <p:spPr>
            <a:xfrm>
              <a:off x="543240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Line 37"/>
            <p:cNvSpPr/>
            <p:nvPr/>
          </p:nvSpPr>
          <p:spPr>
            <a:xfrm>
              <a:off x="543240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2" name="Line 38"/>
            <p:cNvSpPr/>
            <p:nvPr/>
          </p:nvSpPr>
          <p:spPr>
            <a:xfrm>
              <a:off x="618408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3" name="Line 39"/>
            <p:cNvSpPr/>
            <p:nvPr/>
          </p:nvSpPr>
          <p:spPr>
            <a:xfrm>
              <a:off x="69357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4" name="Text Box 40"/>
          <p:cNvSpPr/>
          <p:nvPr/>
        </p:nvSpPr>
        <p:spPr>
          <a:xfrm>
            <a:off x="5495760" y="364968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话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5" name="Group 29"/>
          <p:cNvGrpSpPr/>
          <p:nvPr/>
        </p:nvGrpSpPr>
        <p:grpSpPr>
          <a:xfrm>
            <a:off x="7012080" y="3755880"/>
            <a:ext cx="1503360" cy="1359000"/>
            <a:chOff x="7012080" y="3755880"/>
            <a:chExt cx="1503360" cy="1359000"/>
          </a:xfrm>
        </p:grpSpPr>
        <p:sp>
          <p:nvSpPr>
            <p:cNvPr id="606" name="Rectangle 30"/>
            <p:cNvSpPr/>
            <p:nvPr/>
          </p:nvSpPr>
          <p:spPr>
            <a:xfrm>
              <a:off x="7763760" y="442980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Rectangle 31"/>
            <p:cNvSpPr/>
            <p:nvPr/>
          </p:nvSpPr>
          <p:spPr>
            <a:xfrm>
              <a:off x="7012080" y="442980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Rectangle 32"/>
            <p:cNvSpPr/>
            <p:nvPr/>
          </p:nvSpPr>
          <p:spPr>
            <a:xfrm>
              <a:off x="7763760" y="375588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Rectangle 33"/>
            <p:cNvSpPr/>
            <p:nvPr/>
          </p:nvSpPr>
          <p:spPr>
            <a:xfrm>
              <a:off x="7012080" y="375588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Line 34"/>
            <p:cNvSpPr/>
            <p:nvPr/>
          </p:nvSpPr>
          <p:spPr>
            <a:xfrm>
              <a:off x="7012080" y="37558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Line 35"/>
            <p:cNvSpPr/>
            <p:nvPr/>
          </p:nvSpPr>
          <p:spPr>
            <a:xfrm>
              <a:off x="7012080" y="442980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36"/>
            <p:cNvSpPr/>
            <p:nvPr/>
          </p:nvSpPr>
          <p:spPr>
            <a:xfrm>
              <a:off x="7012080" y="51148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Line 37"/>
            <p:cNvSpPr/>
            <p:nvPr/>
          </p:nvSpPr>
          <p:spPr>
            <a:xfrm>
              <a:off x="7012080" y="375588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Line 38"/>
            <p:cNvSpPr/>
            <p:nvPr/>
          </p:nvSpPr>
          <p:spPr>
            <a:xfrm>
              <a:off x="7763760" y="375588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5" name="Line 39"/>
            <p:cNvSpPr/>
            <p:nvPr/>
          </p:nvSpPr>
          <p:spPr>
            <a:xfrm>
              <a:off x="8515440" y="375588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6" name="Text Box 40"/>
          <p:cNvSpPr/>
          <p:nvPr/>
        </p:nvSpPr>
        <p:spPr>
          <a:xfrm>
            <a:off x="7075440" y="36450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际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8" name="Group 29"/>
          <p:cNvGrpSpPr/>
          <p:nvPr/>
        </p:nvGrpSpPr>
        <p:grpSpPr>
          <a:xfrm>
            <a:off x="1542960" y="1957320"/>
            <a:ext cx="2957400" cy="2609640"/>
            <a:chOff x="1542960" y="1957320"/>
            <a:chExt cx="2957400" cy="2609640"/>
          </a:xfrm>
        </p:grpSpPr>
        <p:sp>
          <p:nvSpPr>
            <p:cNvPr id="619" name="Rectangle 30"/>
            <p:cNvSpPr/>
            <p:nvPr/>
          </p:nvSpPr>
          <p:spPr>
            <a:xfrm>
              <a:off x="3021840" y="3251880"/>
              <a:ext cx="147816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0" name="Rectangle 31"/>
            <p:cNvSpPr/>
            <p:nvPr/>
          </p:nvSpPr>
          <p:spPr>
            <a:xfrm>
              <a:off x="1542960" y="3251880"/>
              <a:ext cx="147888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1" name="Rectangle 32"/>
            <p:cNvSpPr/>
            <p:nvPr/>
          </p:nvSpPr>
          <p:spPr>
            <a:xfrm>
              <a:off x="3021840" y="1957320"/>
              <a:ext cx="1478160" cy="1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2" name="Rectangle 33"/>
            <p:cNvSpPr/>
            <p:nvPr/>
          </p:nvSpPr>
          <p:spPr>
            <a:xfrm>
              <a:off x="1542960" y="1957320"/>
              <a:ext cx="1478880" cy="1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3" name="Line 34"/>
            <p:cNvSpPr/>
            <p:nvPr/>
          </p:nvSpPr>
          <p:spPr>
            <a:xfrm>
              <a:off x="1542960" y="1957320"/>
              <a:ext cx="29574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4" name="Line 35"/>
            <p:cNvSpPr/>
            <p:nvPr/>
          </p:nvSpPr>
          <p:spPr>
            <a:xfrm>
              <a:off x="1542960" y="3251880"/>
              <a:ext cx="2957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5" name="Line 36"/>
            <p:cNvSpPr/>
            <p:nvPr/>
          </p:nvSpPr>
          <p:spPr>
            <a:xfrm>
              <a:off x="1542960" y="4566960"/>
              <a:ext cx="29574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6" name="Line 37"/>
            <p:cNvSpPr/>
            <p:nvPr/>
          </p:nvSpPr>
          <p:spPr>
            <a:xfrm>
              <a:off x="1542960" y="1957320"/>
              <a:ext cx="0" cy="26096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7" name="Line 38"/>
            <p:cNvSpPr/>
            <p:nvPr/>
          </p:nvSpPr>
          <p:spPr>
            <a:xfrm>
              <a:off x="3021840" y="1957320"/>
              <a:ext cx="0" cy="260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8" name="Line 39"/>
            <p:cNvSpPr/>
            <p:nvPr/>
          </p:nvSpPr>
          <p:spPr>
            <a:xfrm>
              <a:off x="4500360" y="1957320"/>
              <a:ext cx="0" cy="26096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29" name="Text Box 40"/>
          <p:cNvSpPr/>
          <p:nvPr/>
        </p:nvSpPr>
        <p:spPr>
          <a:xfrm>
            <a:off x="1671480" y="1773360"/>
            <a:ext cx="59914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99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井 </a:t>
            </a:r>
            <a:endParaRPr b="0" i="1" lang="en-US" sz="19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0" name="Group 29"/>
          <p:cNvGrpSpPr/>
          <p:nvPr/>
        </p:nvGrpSpPr>
        <p:grpSpPr>
          <a:xfrm>
            <a:off x="4968720" y="1943280"/>
            <a:ext cx="2955600" cy="2610720"/>
            <a:chOff x="4968720" y="1943280"/>
            <a:chExt cx="2955600" cy="2610720"/>
          </a:xfrm>
        </p:grpSpPr>
        <p:sp>
          <p:nvSpPr>
            <p:cNvPr id="631" name="Rectangle 30"/>
            <p:cNvSpPr/>
            <p:nvPr/>
          </p:nvSpPr>
          <p:spPr>
            <a:xfrm>
              <a:off x="6446880" y="3238200"/>
              <a:ext cx="1477440" cy="13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2" name="Rectangle 31"/>
            <p:cNvSpPr/>
            <p:nvPr/>
          </p:nvSpPr>
          <p:spPr>
            <a:xfrm>
              <a:off x="4968720" y="3238200"/>
              <a:ext cx="1478160" cy="13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3" name="Rectangle 32"/>
            <p:cNvSpPr/>
            <p:nvPr/>
          </p:nvSpPr>
          <p:spPr>
            <a:xfrm>
              <a:off x="6446880" y="1943280"/>
              <a:ext cx="14774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4" name="Rectangle 33"/>
            <p:cNvSpPr/>
            <p:nvPr/>
          </p:nvSpPr>
          <p:spPr>
            <a:xfrm>
              <a:off x="4968720" y="1943280"/>
              <a:ext cx="147816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5" name="Line 34"/>
            <p:cNvSpPr/>
            <p:nvPr/>
          </p:nvSpPr>
          <p:spPr>
            <a:xfrm>
              <a:off x="4968720" y="1943280"/>
              <a:ext cx="29556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6" name="Line 35"/>
            <p:cNvSpPr/>
            <p:nvPr/>
          </p:nvSpPr>
          <p:spPr>
            <a:xfrm>
              <a:off x="4968720" y="3238200"/>
              <a:ext cx="2955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7" name="Line 36"/>
            <p:cNvSpPr/>
            <p:nvPr/>
          </p:nvSpPr>
          <p:spPr>
            <a:xfrm>
              <a:off x="4968720" y="4554000"/>
              <a:ext cx="29556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8" name="Line 37"/>
            <p:cNvSpPr/>
            <p:nvPr/>
          </p:nvSpPr>
          <p:spPr>
            <a:xfrm>
              <a:off x="4968720" y="1943280"/>
              <a:ext cx="0" cy="26107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9" name="Line 38"/>
            <p:cNvSpPr/>
            <p:nvPr/>
          </p:nvSpPr>
          <p:spPr>
            <a:xfrm>
              <a:off x="6446880" y="1943280"/>
              <a:ext cx="0" cy="261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0" name="Line 39"/>
            <p:cNvSpPr/>
            <p:nvPr/>
          </p:nvSpPr>
          <p:spPr>
            <a:xfrm>
              <a:off x="7924320" y="1943280"/>
              <a:ext cx="0" cy="26107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41" name="Text Box 40"/>
          <p:cNvSpPr/>
          <p:nvPr/>
        </p:nvSpPr>
        <p:spPr>
          <a:xfrm>
            <a:off x="5054760" y="1773360"/>
            <a:ext cx="29732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99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喝 </a:t>
            </a:r>
            <a:endParaRPr b="0" i="1" lang="en-US" sz="19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任意多边形 1"/>
          <p:cNvSpPr/>
          <p:nvPr/>
        </p:nvSpPr>
        <p:spPr>
          <a:xfrm>
            <a:off x="1905120" y="3181320"/>
            <a:ext cx="2198520" cy="339840"/>
          </a:xfrm>
          <a:custGeom>
            <a:avLst/>
            <a:gdLst/>
            <a:ahLst/>
            <a:rect l="l" t="t" r="r" b="b"/>
            <a:pathLst>
              <a:path w="2198619" h="338181">
                <a:moveTo>
                  <a:pt x="60163" y="229837"/>
                </a:moveTo>
                <a:cubicBezTo>
                  <a:pt x="7847" y="234386"/>
                  <a:pt x="-10350" y="213914"/>
                  <a:pt x="5572" y="229837"/>
                </a:cubicBezTo>
                <a:cubicBezTo>
                  <a:pt x="21494" y="245760"/>
                  <a:pt x="114754" y="309450"/>
                  <a:pt x="155697" y="325372"/>
                </a:cubicBezTo>
                <a:cubicBezTo>
                  <a:pt x="196640" y="341295"/>
                  <a:pt x="82909" y="343569"/>
                  <a:pt x="251231" y="325372"/>
                </a:cubicBezTo>
                <a:cubicBezTo>
                  <a:pt x="419553" y="307175"/>
                  <a:pt x="858556" y="241211"/>
                  <a:pt x="1165631" y="216190"/>
                </a:cubicBezTo>
                <a:cubicBezTo>
                  <a:pt x="1472706" y="191169"/>
                  <a:pt x="1927631" y="188894"/>
                  <a:pt x="2093679" y="175246"/>
                </a:cubicBezTo>
                <a:cubicBezTo>
                  <a:pt x="2259727" y="161598"/>
                  <a:pt x="2184664" y="161599"/>
                  <a:pt x="2161918" y="134303"/>
                </a:cubicBezTo>
                <a:cubicBezTo>
                  <a:pt x="2139172" y="107007"/>
                  <a:pt x="2020891" y="31945"/>
                  <a:pt x="1957201" y="11473"/>
                </a:cubicBezTo>
                <a:cubicBezTo>
                  <a:pt x="1893511" y="-8999"/>
                  <a:pt x="1873041" y="2374"/>
                  <a:pt x="1779781" y="11473"/>
                </a:cubicBezTo>
                <a:cubicBezTo>
                  <a:pt x="1686521" y="20571"/>
                  <a:pt x="1397643" y="66064"/>
                  <a:pt x="1397643" y="66064"/>
                </a:cubicBezTo>
                <a:lnTo>
                  <a:pt x="319470" y="202542"/>
                </a:lnTo>
                <a:lnTo>
                  <a:pt x="60163" y="22983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任意多边形 2"/>
          <p:cNvSpPr/>
          <p:nvPr/>
        </p:nvSpPr>
        <p:spPr>
          <a:xfrm>
            <a:off x="6012000" y="3397320"/>
            <a:ext cx="944280" cy="631800"/>
          </a:xfrm>
          <a:custGeom>
            <a:avLst/>
            <a:gdLst/>
            <a:ahLst/>
            <a:rect l="l" t="t" r="r" b="b"/>
            <a:pathLst>
              <a:path w="1018835" h="588259">
                <a:moveTo>
                  <a:pt x="303" y="20691"/>
                </a:moveTo>
                <a:cubicBezTo>
                  <a:pt x="4852" y="47986"/>
                  <a:pt x="84465" y="79831"/>
                  <a:pt x="95838" y="170816"/>
                </a:cubicBezTo>
                <a:cubicBezTo>
                  <a:pt x="107211" y="261801"/>
                  <a:pt x="45796" y="505186"/>
                  <a:pt x="68542" y="566601"/>
                </a:cubicBezTo>
                <a:cubicBezTo>
                  <a:pt x="91288" y="628016"/>
                  <a:pt x="232315" y="539306"/>
                  <a:pt x="232315" y="539306"/>
                </a:cubicBezTo>
                <a:lnTo>
                  <a:pt x="928351" y="430124"/>
                </a:lnTo>
                <a:cubicBezTo>
                  <a:pt x="1058005" y="411927"/>
                  <a:pt x="1010238" y="450596"/>
                  <a:pt x="1010238" y="430124"/>
                </a:cubicBezTo>
                <a:cubicBezTo>
                  <a:pt x="1010238" y="409652"/>
                  <a:pt x="998864" y="318667"/>
                  <a:pt x="928351" y="307294"/>
                </a:cubicBezTo>
                <a:cubicBezTo>
                  <a:pt x="857838" y="295921"/>
                  <a:pt x="709987" y="345963"/>
                  <a:pt x="587157" y="361885"/>
                </a:cubicBezTo>
                <a:cubicBezTo>
                  <a:pt x="464327" y="377807"/>
                  <a:pt x="259611" y="430124"/>
                  <a:pt x="191372" y="402828"/>
                </a:cubicBezTo>
                <a:cubicBezTo>
                  <a:pt x="123133" y="375532"/>
                  <a:pt x="177724" y="250428"/>
                  <a:pt x="177724" y="198112"/>
                </a:cubicBezTo>
                <a:cubicBezTo>
                  <a:pt x="177724" y="145796"/>
                  <a:pt x="193647" y="116226"/>
                  <a:pt x="191372" y="88930"/>
                </a:cubicBezTo>
                <a:cubicBezTo>
                  <a:pt x="189098" y="61635"/>
                  <a:pt x="184549" y="47987"/>
                  <a:pt x="164077" y="34339"/>
                </a:cubicBezTo>
                <a:cubicBezTo>
                  <a:pt x="143605" y="20691"/>
                  <a:pt x="93563" y="16141"/>
                  <a:pt x="68542" y="7043"/>
                </a:cubicBezTo>
                <a:cubicBezTo>
                  <a:pt x="43521" y="-2055"/>
                  <a:pt x="-4246" y="-6604"/>
                  <a:pt x="303" y="2069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00Z</dcterms:created>
  <dc:creator/>
  <dc:description/>
  <dc:language>en-US</dc:language>
  <cp:lastModifiedBy>万润仪器贸易公司</cp:lastModifiedBy>
  <dcterms:modified xsi:type="dcterms:W3CDTF">2020-08-19T01:43:19Z</dcterms:modified>
  <cp:revision>4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